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24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125F-65BD-45A4-B02F-029611F90C83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DCD5-54BE-4FC6-9381-2F310E46AB77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B2AE-66A3-4282-858C-1B5A381F9A31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BC45-739C-4709-86B4-38FE09F6D215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6F85-C9D8-487D-9636-B33A1420AECA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8FF1-3236-44D1-B40C-9049960CE23C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87EB-CD40-4B23-875C-7BD0F6415794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856D-462B-4F5E-BD98-2533B188D857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7120" y="2971440"/>
            <a:ext cx="7858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Encuesta de estratificación social</a:t>
            </a:r>
            <a:br>
              <a:rPr sz="2500"/>
            </a:b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 Algunos resultados para el país</a:t>
            </a:r>
            <a:br>
              <a:rPr sz="2500"/>
            </a:br>
            <a:r>
              <a:rPr b="1" lang="es-ES" sz="2500" spc="-1" strike="noStrike">
                <a:solidFill>
                  <a:srgbClr val="dde9ec"/>
                </a:solidFill>
                <a:latin typeface="Arial Narrow"/>
              </a:rPr>
              <a:t>y las regiones de la Araucanía, Los Ríos y Los Lagos</a:t>
            </a:r>
            <a:r>
              <a:rPr b="1" lang="es-ES" sz="2500" spc="-1" strike="noStrike">
                <a:solidFill>
                  <a:srgbClr val="dde9ec"/>
                </a:solidFill>
                <a:latin typeface="Bookman Old Style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dde9ec"/>
              </a:solidFill>
              <a:latin typeface="Bookman Old Style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481800" cy="2368440"/>
          </a:xfrm>
          <a:prstGeom prst="rect">
            <a:avLst/>
          </a:prstGeom>
          <a:ln w="0">
            <a:noFill/>
          </a:ln>
        </p:spPr>
      </p:pic>
      <p:sp>
        <p:nvSpPr>
          <p:cNvPr id="322" name="1 Título"/>
          <p:cNvSpPr/>
          <p:nvPr/>
        </p:nvSpPr>
        <p:spPr>
          <a:xfrm>
            <a:off x="971640" y="4365720"/>
            <a:ext cx="7286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600" spc="-1" strike="noStrike">
                <a:solidFill>
                  <a:srgbClr val="dde9ec"/>
                </a:solidFill>
                <a:latin typeface="Bookman Old Style"/>
              </a:rPr>
              <a:t>Seminarios </a:t>
            </a: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Macrozonales SUB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Osorno, 20 de octubr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dde9ec"/>
                </a:solidFill>
                <a:latin typeface="Bookman Old Style"/>
              </a:rPr>
              <a:t>Eduardo Candia Agusti – Proyecto desigual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64653"/>
                </a:solidFill>
                <a:latin typeface="Bookman Old Style"/>
              </a:rPr>
              <a:t>El deseo de vivir en una determinada región…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0" y="60724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360" y="54936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64653"/>
                </a:solidFill>
                <a:latin typeface="Bookman Old Style"/>
              </a:rPr>
              <a:t>El deseo de vivir en una determinada región…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Gráfico 7" descr=""/>
          <p:cNvPicPr/>
          <p:nvPr/>
        </p:nvPicPr>
        <p:blipFill>
          <a:blip r:embed="rId1"/>
          <a:srcRect l="-20860" t="-4223" r="-21225" b="-28392"/>
          <a:stretch/>
        </p:blipFill>
        <p:spPr>
          <a:xfrm>
            <a:off x="1258920" y="1341360"/>
            <a:ext cx="669780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0" y="60724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l deseo de vivir en una determinada comun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0" y="640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3760" y="939960"/>
            <a:ext cx="88693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s oportunidades que brinda la reg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3611520" y="6192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13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s oportunidades que brinda la reg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3611520" y="6192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66680" y="1052640"/>
            <a:ext cx="85089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85560" y="2786040"/>
            <a:ext cx="6791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dde9ec"/>
                </a:solidFill>
                <a:uFillTx/>
                <a:latin typeface="Bookman Old Style"/>
              </a:rPr>
              <a:t>2. TERRITORIO E INSTITUCIONALIDAD: EL EFECTO DEL TERRITORIO EN EL CONOCIMIENTO DEL FUNCIONAMIENTO DEL ESTADO Y EN LA CONFIANZA INSTITUCIONAL</a:t>
            </a:r>
            <a:br>
              <a:rPr sz="1800"/>
            </a:br>
            <a:endParaRPr b="0" lang="en-US" sz="1800" spc="-1" strike="noStrike">
              <a:solidFill>
                <a:srgbClr val="dde9ec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Evaluación del desempeño de las instituciones regionales y locales: ni bien ni mal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900840" y="6408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242280" cy="57452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79280" y="3429000"/>
            <a:ext cx="6048360" cy="64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8000" y="2133720"/>
            <a:ext cx="604836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Gráfico 26" descr=""/>
          <p:cNvPicPr/>
          <p:nvPr/>
        </p:nvPicPr>
        <p:blipFill>
          <a:blip r:embed="rId1"/>
          <a:srcRect l="-2128" t="-3429" r="-1529" b="-4535"/>
          <a:stretch/>
        </p:blipFill>
        <p:spPr>
          <a:xfrm>
            <a:off x="1116000" y="1125360"/>
            <a:ext cx="5977080" cy="51120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"/>
          <p:cNvSpPr/>
          <p:nvPr/>
        </p:nvSpPr>
        <p:spPr>
          <a:xfrm>
            <a:off x="3611520" y="594180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 en comparación con Santiag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6613560" y="6408360"/>
            <a:ext cx="19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 en comparación con Santiag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68360" y="1092240"/>
            <a:ext cx="85089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85840" y="571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0" y="60008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omparación de confianza en institucion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71640" y="1557360"/>
          <a:ext cx="7200720" cy="3805200"/>
        </p:xfrm>
        <a:graphic>
          <a:graphicData uri="http://schemas.openxmlformats.org/drawingml/2006/table">
            <a:tbl>
              <a:tblPr/>
              <a:tblGrid>
                <a:gridCol w="4159080"/>
                <a:gridCol w="743040"/>
                <a:gridCol w="741240"/>
                <a:gridCol w="743040"/>
                <a:gridCol w="814320"/>
              </a:tblGrid>
              <a:tr h="561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ía en las siguientes institu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GOBIERNO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GOBIERNO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GOBER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MUNICIP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CIONES SOCIALES LOC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dde9ec"/>
                </a:solidFill>
                <a:uFillTx/>
                <a:latin typeface="Bookman Old Style"/>
              </a:rPr>
              <a:t>1. LA IDENTIFICACIÓN TERRITORIAL</a:t>
            </a:r>
            <a:br>
              <a:rPr sz="2900"/>
            </a:br>
            <a:endParaRPr b="0" lang="en-US" sz="2400" spc="-1" strike="noStrike">
              <a:solidFill>
                <a:srgbClr val="dde9ec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285840" y="571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3419640" y="64533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omparación de confianza en institucion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55760" y="1019160"/>
            <a:ext cx="8508960" cy="5289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4360" y="3645000"/>
            <a:ext cx="597528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196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219640" y="1700280"/>
            <a:ext cx="0" cy="46083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1773360"/>
            <a:ext cx="0" cy="453528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285840" y="571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3419640" y="64533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omparación de confianza en institucion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39760" y="958680"/>
            <a:ext cx="8724960" cy="5423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68360" y="3357720"/>
            <a:ext cx="489564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1628640"/>
            <a:ext cx="71640" cy="47530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32360" y="1773360"/>
            <a:ext cx="0" cy="4535280"/>
          </a:xfrm>
          <a:prstGeom prst="line">
            <a:avLst/>
          </a:prstGeom>
          <a:ln w="936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195640" y="1267920"/>
            <a:ext cx="40399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Los miembros del Consejo Regional eligen al/ a la Intendente/a” (falso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Gráfico 40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5930640" cy="35733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3000240" y="5799600"/>
            <a:ext cx="314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ota: sólo se indican los porcentajes de las respuestas exactas y NS/N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2 Marcador de contenido"/>
          <p:cNvSpPr/>
          <p:nvPr/>
        </p:nvSpPr>
        <p:spPr>
          <a:xfrm>
            <a:off x="500040" y="142920"/>
            <a:ext cx="8358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ill Sans MT"/>
              </a:rPr>
              <a:t>Conocimiento del funcionamiento de las instituciones: una deuda del civis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484000" y="1483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Los Concejales municipales eligen a los miembros del Consejo Regional” (verdadero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000240" y="5728320"/>
            <a:ext cx="314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Nota: sólo se indican los porcentajes de las respuestas exactas y NS/N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Gráfico 38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931000" cy="33861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12 Marcador de contenido"/>
          <p:cNvSpPr/>
          <p:nvPr/>
        </p:nvSpPr>
        <p:spPr>
          <a:xfrm>
            <a:off x="500040" y="142920"/>
            <a:ext cx="8358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ill Sans MT"/>
              </a:rPr>
              <a:t>Conocimiento del funcionamiento de las instituciones: una deuda del civism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Respuesta correcta por regió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6804360" y="630792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-61920" y="692280"/>
            <a:ext cx="924228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Respuesta correcta por regió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6804360" y="630792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2440" y="692280"/>
            <a:ext cx="924264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64653"/>
                </a:solidFill>
                <a:latin typeface="Bookman Old Style"/>
              </a:rPr>
              <a:t>La participación en asociaciones como forma activa de cultura cívic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262908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9360" y="90792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dde9ec"/>
                </a:solidFill>
                <a:uFillTx/>
                <a:latin typeface="Bookman Old Style"/>
              </a:rPr>
              <a:t>3. Educación y Capital Humano</a:t>
            </a:r>
            <a:br>
              <a:rPr sz="2900"/>
            </a:br>
            <a:endParaRPr b="0" lang="en-US" sz="2000" spc="-1" strike="noStrike">
              <a:solidFill>
                <a:srgbClr val="dde9ec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64653"/>
                </a:solidFill>
                <a:latin typeface="Bookman Old Style"/>
              </a:rPr>
              <a:t>Capital educacional de los habitantes de las 15 regiones del país: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Gráfico 3" descr=""/>
          <p:cNvPicPr/>
          <p:nvPr/>
        </p:nvPicPr>
        <p:blipFill>
          <a:blip r:embed="rId1"/>
          <a:srcRect l="0" t="0" r="0" b="-51"/>
          <a:stretch/>
        </p:blipFill>
        <p:spPr>
          <a:xfrm>
            <a:off x="642960" y="1357200"/>
            <a:ext cx="7500960" cy="41864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3"/>
          <p:cNvSpPr/>
          <p:nvPr/>
        </p:nvSpPr>
        <p:spPr>
          <a:xfrm>
            <a:off x="0" y="6072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n cuanto a la educación terciari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" descr=""/>
          <p:cNvPicPr/>
          <p:nvPr/>
        </p:nvPicPr>
        <p:blipFill>
          <a:blip r:embed="rId1"/>
          <a:stretch/>
        </p:blipFill>
        <p:spPr>
          <a:xfrm>
            <a:off x="395280" y="1487520"/>
            <a:ext cx="8209080" cy="26622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1338840" y="5444280"/>
            <a:ext cx="646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Mario Pezzini, Carlos Icaza Lara, National Territorial Review of Chile Julio, 2009, Santiago de Chile, p.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336920" y="5877000"/>
          <a:ext cx="7220160" cy="774720"/>
        </p:xfrm>
        <a:graphic>
          <a:graphicData uri="http://schemas.openxmlformats.org/drawingml/2006/table">
            <a:tbl>
              <a:tblPr/>
              <a:tblGrid>
                <a:gridCol w="3716280"/>
                <a:gridCol w="35038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366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n cuanto a la educación terciari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6500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108000" y="63648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En cuanto a la educación terciari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0" y="6500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-49320" y="708120"/>
            <a:ext cx="9242640" cy="5745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79280" y="3357720"/>
            <a:ext cx="633744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ción de postgrado por reg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6904440" y="645264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49320" y="63648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Lugar del establecimiento de formación terciaria, por región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áfico 8" descr=""/>
          <p:cNvPicPr/>
          <p:nvPr/>
        </p:nvPicPr>
        <p:blipFill>
          <a:blip r:embed="rId1"/>
          <a:srcRect l="0" t="0" r="0" b="-80"/>
          <a:stretch/>
        </p:blipFill>
        <p:spPr>
          <a:xfrm>
            <a:off x="1428840" y="4071960"/>
            <a:ext cx="6286320" cy="21477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3"/>
          <p:cNvSpPr/>
          <p:nvPr/>
        </p:nvSpPr>
        <p:spPr>
          <a:xfrm>
            <a:off x="3613680" y="623484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Gráfico 51" descr=""/>
          <p:cNvPicPr/>
          <p:nvPr/>
        </p:nvPicPr>
        <p:blipFill>
          <a:blip r:embed="rId2"/>
          <a:srcRect l="-10098" t="-5171" r="-668" b="-57604"/>
          <a:stretch/>
        </p:blipFill>
        <p:spPr>
          <a:xfrm>
            <a:off x="2214720" y="1428840"/>
            <a:ext cx="4357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19320" y="2971800"/>
            <a:ext cx="68580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(4. Temas valóricos)</a:t>
            </a:r>
            <a:br>
              <a:rPr sz="2900"/>
            </a:b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Igualdad de la mujer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6072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582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Igualdad de la mujer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6072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4920" y="795240"/>
            <a:ext cx="86407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Tolerancia a la desigualdad social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0" y="6351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3296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Tolerancia a la desigualdad social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0" y="6351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-49320" y="63648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Tolerancia a la desigualdad social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0" y="6351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54080" y="70812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336920" y="5877000"/>
          <a:ext cx="7220160" cy="774720"/>
        </p:xfrm>
        <a:graphic>
          <a:graphicData uri="http://schemas.openxmlformats.org/drawingml/2006/table">
            <a:tbl>
              <a:tblPr/>
              <a:tblGrid>
                <a:gridCol w="3716280"/>
                <a:gridCol w="35038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49320" y="76500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Uniones del mismo sexo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82440" y="70812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Meritocracia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82440" y="76500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Meritocracia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9360" y="63648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Derechos laborales: sindicalización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9360" y="70812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464653"/>
                </a:solidFill>
                <a:latin typeface="Bookman Old Style"/>
              </a:rPr>
              <a:t>Medio ambiente</a:t>
            </a:r>
            <a:endParaRPr b="0" lang="en-US" sz="33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0" y="64231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14200" y="1214280"/>
            <a:ext cx="85154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La evidencia levantada mediante este estudio sugiere que la territorialidad es una importante fuente de diferenciación social y de reproducción de la desigualdad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Este análisis preliminar por región muestra en que se asemejan y diferencian las regiones de la Araucanía, Los Ríos y Los Lagos del resto de las regiones y promedios nacionales.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La Araucanía se destaca por altos niveles de identificación territorial, percepción de menores oportunidades que el resto del país y baja disponibilidad de técnicos y capital humano avanzado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Los Lagos se destaca por su parte tiende a situarse muy cerca de los promedios nacionales. Se escapa por la percepciones que sus instituciones no funcionan tan bien como en la capital y por una menor disponibilidad de profesionales universitarios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Los Ríos se caracteriza por una baja identificación territorial, altas preferencias por vivir ahí y  más oportunidades percibidas en relación a la macrozona (IX, X, XIV).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6920" y="5300280"/>
            <a:ext cx="678204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481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336920" y="5877000"/>
          <a:ext cx="7220160" cy="774720"/>
        </p:xfrm>
        <a:graphic>
          <a:graphicData uri="http://schemas.openxmlformats.org/drawingml/2006/table">
            <a:tbl>
              <a:tblPr/>
              <a:tblGrid>
                <a:gridCol w="3716280"/>
                <a:gridCol w="35038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-49320" y="62064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427640" y="5950080"/>
          <a:ext cx="7219800" cy="774720"/>
        </p:xfrm>
        <a:graphic>
          <a:graphicData uri="http://schemas.openxmlformats.org/drawingml/2006/table">
            <a:tbl>
              <a:tblPr/>
              <a:tblGrid>
                <a:gridCol w="3715920"/>
                <a:gridCol w="35038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2440" y="620640"/>
            <a:ext cx="92426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Identificación con varios niveles territoria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042920" y="5516640"/>
          <a:ext cx="7220160" cy="774720"/>
        </p:xfrm>
        <a:graphic>
          <a:graphicData uri="http://schemas.openxmlformats.org/drawingml/2006/table">
            <a:tbl>
              <a:tblPr/>
              <a:tblGrid>
                <a:gridCol w="3716280"/>
                <a:gridCol w="3503880"/>
              </a:tblGrid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ente: Proyecto Desigualdad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41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64653"/>
                </a:solidFill>
                <a:latin typeface="Bookman Old Style"/>
              </a:rPr>
              <a:t>Resumen niveles de identificación</a:t>
            </a:r>
            <a:br>
              <a:rPr sz="2800"/>
            </a:br>
            <a:r>
              <a:rPr b="0" lang="es-ES" sz="1400" spc="-1" strike="noStrike">
                <a:solidFill>
                  <a:srgbClr val="464653"/>
                </a:solidFill>
                <a:latin typeface="Bookman Old Style"/>
              </a:rPr>
              <a:t>Fuente: Proyecto Desigualdad</a:t>
            </a:r>
            <a:br>
              <a:rPr sz="2800"/>
            </a:br>
            <a:endParaRPr b="0" lang="en-US" sz="14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9528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64653"/>
                </a:solidFill>
                <a:latin typeface="Bookman Old Style"/>
              </a:rPr>
              <a:t>El deseo de vivir en una determinada región…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0" y="60724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Calibri"/>
              </a:rPr>
              <a:t>Fuente: Proyecto Desigualdad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82803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8:19:30Z</dcterms:created>
  <dc:creator>E. Barozet</dc:creator>
  <dc:description/>
  <dc:language>en-US</dc:language>
  <cp:lastModifiedBy>lortiz</cp:lastModifiedBy>
  <dcterms:modified xsi:type="dcterms:W3CDTF">2009-11-23T20:17:34Z</dcterms:modified>
  <cp:revision>51</cp:revision>
  <dc:subject/>
  <dc:title>La adscripción territorial de los chilenos y las chilenas:  Una mirada desde la estructura de oportunidades  Seminario Nuevas tendencias de la (des)igualdad social: Desafíos para Chile y América Latina  09/09/2009</dc:title>
</cp:coreProperties>
</file>